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9C9A2-DC6F-469E-9D7C-444CBDF57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80202-F95D-48CB-B66E-9B9D8A4DA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B560ED-7439-4225-AE53-06C56F7C5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04F64-02D3-4B40-BCAD-C40AB5113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B6F6A-95B3-459C-8E4F-78203CC94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CB81D-25AD-4D33-8DFB-9CF927D07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4929C5-7F0C-4E9E-A3C9-2ED5CE130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69454-6AFF-46CA-B812-B058D63E13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856B7A-E1C9-43F3-97D4-B6EF4039D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3E41B-CADE-4D09-B4DC-F2222C6AD6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CE71A7-E9DC-48FB-B2C9-AE506B3A4D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D3C9A-3E45-4E44-AD99-17CBEF0064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A5F007-BCA7-42BF-8336-59D50D2C9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D9B89-E805-439C-BC40-EC29D32FCE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D1EBDD-D371-49CA-AB6F-FE4EEB88A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193D1-E801-4A00-8B27-C94F16AEF8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29A1E-DBED-43E1-8BE0-2ACFC1E3A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DE844-0CEA-47A1-A043-90264FD4C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52B75-2C34-40E2-9657-7809DE401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1ACE1-43E7-41B0-8B97-EF751DC115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BDCF3-FDB2-4685-AFFE-B8E1318D52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289BA9-2439-4879-AE09-13354CB37B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C6B01-DD8E-4687-B2D1-65DD34F5CA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6BD1C6-96BE-4464-96A6-1D6504DFD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D9E6D-0548-4465-B829-E7D007A447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F823A-33EB-425C-8BC0-EC3FD7014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66638-912F-4545-9EE8-8478A6635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F8B64-5EAA-4ED0-8392-8B72BAFCB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5F8ECF-1F88-421D-9DE5-CEA6DACE4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34199-E35A-4C04-BE1A-A337974C3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E4E23-FE30-485C-AE07-4F2919C03E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2C222-FA67-4BEE-A1A4-AF6C161601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0775C3-8134-4378-A93C-1CD6FE1B5C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2102BE-CDFE-4969-A3B8-AB662FF815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CB1DFC-7F76-45A5-84AA-5930E3B0D4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F143F8-F936-49B4-94B2-3BAA75BB52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64384C-E8F5-4362-94FD-FB6796EF01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A685CD-95BF-4FFD-BB45-5DECE2D3E6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1A8648-CA26-4464-93D6-A4D2799DBF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D9E05E-93EC-4CC8-A02A-6FA3EA8171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8B07F3-7444-4C27-9293-49F2152568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75D841-9B4C-4456-96A2-CACA7733FD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274B8A-AAAB-4E02-A872-679637E47D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5B5839-1418-40D7-AA84-62069A33E0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5F2AF5-7E6B-46E5-875E-23079F9D66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7B5FD2-F47B-4E33-AC98-F8354B071F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D96BD1-1852-42E0-9273-E39586D1F0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B808DF-94B5-4A1F-AA48-F6E7B57E0B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E20ECF-2239-4B8C-B91E-4785041409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1F9E4A-4865-4AF4-A3AB-557BE7BB90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6AE0C7-2A5F-4260-B9D5-C9174809C1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F28F8B-6086-41C4-BC92-FD71E3BE6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827277-34ED-4BB5-B386-5CA3D6384F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C98508-A7D9-44CD-829D-7E4F12F1C4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EE6A50-BE84-4F14-A26D-27EC1FD11C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F84887-7526-4183-BA6D-DF158A5981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BB4E09-EA4E-42FD-A2A5-118371AC3A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8BC654-A473-44EB-BAEC-A3FC0A59DC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7729B7-C5FF-4257-A75B-16014E4AA3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966CDD-D222-44E2-94B3-1743A1C579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5ECD90-26AE-4AED-A0DA-15239887B3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1E8706-70C1-4D73-8C9E-53D4FB0EB9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D4C2F4-56BA-4E6B-94BB-B89DEF1106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8BE200-CCC7-4D41-AF67-D6A201108C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F28959-2B1E-4740-8778-5F05945C14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C8F0F6-C69E-40F7-AA1D-31ADCC441C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3497AF-569B-4F1F-AAAD-B7BD2A9544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E0C4F8-BBA6-4440-B5EE-2B87BA8CBF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0C78A7-095F-407D-98C3-3025FC70AC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B1A6BA-7943-4883-A5EB-9C72965F0D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26AD05-21F5-4DAB-930E-5427A5F543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311DF3-5B64-4AF7-A1A3-E5D88765EC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68F29D-98BD-40B2-9694-4D0DED026D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A40232-DE1F-44DF-A40D-20CFBAF206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F6DC5F-CEE8-41B1-A50D-C5D58050A9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AB2F83-F7EC-4858-9FD3-4F49FBF394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52F503-5678-49EE-B145-4D957DDC74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E2C861-15EB-4F51-9964-714D19BBCC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C585F2-C1E7-413C-8F00-F8A2DD1C4C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022424-4AE6-4285-AEF4-7EB5AF7687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ED4F36-64D5-494E-A0A9-FC6D8648C9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0AEA308-0D55-4F94-AAB5-95D8AA6611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E07641-BA7E-43D6-9D57-799D95FBFA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A2AF0D-F69E-4884-9CE1-6C863C7218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648767-BC51-42CF-A09E-EACA441748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A4CDCD-0432-4EEC-906B-8F3CE53425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67A8D9-483E-4A19-A078-FCB55489CA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0BDD0D-1FF7-4652-89D8-0A960DF9DF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ED1A03-4DA9-4A57-A13F-612B346FE4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DF66BC-B1A4-42A0-99AA-A992F2240E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C040B0-7524-48AE-889B-BB7BB527BC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87D57E-FCC6-4259-B73D-89EFC32D75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8CE5A3-12FC-40E3-B1A7-98F661A20F9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2F49F2F-C507-4AA1-A000-F3880AFFF59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175EEF-209B-4799-80E0-7081A9FEE0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3263123-5F77-4EBE-B678-881EEAC0AF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ED9A9F0-39A6-4822-8BAB-05468E09E4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925CC5-FC53-4A8E-B7B2-B418AA58AD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152295-AB6C-4BB9-A49E-618394D59B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CD0FD3-4FAF-4030-9B21-E1A8C9A87A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95CCFC-03F1-49A8-9031-2F153F10E9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C2488F-66A2-498A-B72A-F09B9F820B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4408BE-E956-479D-864B-E13166E20F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A5C0B2-C29D-4592-92B4-F3479DC4B26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AE08CB-8FA3-471C-9686-B2391A913C0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6506BA8-8030-41C6-845F-05752170232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C13584-36C2-48EE-A856-1DC3415A67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23F142D-DC19-489A-A600-F4DE44E6AA2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0DE342-E772-4840-8299-E4DFF104E8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7EE9A3-99E3-4EDD-ADAE-1066B1D77A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165625-AE7E-46D3-8492-666C486D53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BED16E-0CF8-4DB7-8961-BC1A2DA97A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E7F987-E5FD-4B88-B37E-DCE3E95177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E20780-D6D1-4EA1-A7B3-3973E1E549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287FB8-D24C-48A8-949F-18E9428475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490D9B2-8EB8-4DC3-B01B-46CB358A2D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7633F7-E6E1-489C-A9F7-02F49C08E09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9F67683-1EC9-45DB-B37C-B838EC5648D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075530-0AAD-4C32-89C7-0288F952EC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4A1D9F-A0A8-4F66-A3D6-284E75A7654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E3ED26-4AA5-44EC-8074-F131EE9026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CAE434-F9B4-449E-83F0-EBFC95BAFF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0E5E87-C7F7-4E39-A076-1B84379521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04D707-AC6D-4DF7-9ED6-C6F1E4B9FF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F3463B-4D86-4A9C-A0A5-C7AE70955B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14A450-9A09-4A4A-ACF8-0822472FFD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EAAEC2-B9A1-4F89-922B-278AC37A9F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650F3D-3E46-431B-9498-A2A2D82AF79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C8F7EC5-9DB4-4BC2-AC07-45E866EFB3E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52AFD04-53B4-4DB3-A6D1-C2CB6669C06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C1C86E-C103-449A-BA08-6021E3E0D6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FCC9AA-5B34-4DF3-A9D1-DEFC73D770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953F9F-40F1-4B7B-8DA8-10278E1803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446849-1382-4B93-A986-6C3E0B0E5B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6AE816-0274-451C-9C6B-465AE39BEF0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437216A-8686-40F5-B3D5-FF92FFAC9C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239C60-ACF1-4092-97DD-158FD95859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0BEE32-CA81-49C2-A3CE-209BDE4BDD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5ACDFA-DAC1-42AC-A1F2-975E7FD216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26BA28-E2B2-4602-8623-79C1E45B0A1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B326EC7-68F4-45B5-9B77-C85143B3E93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3B3E1A1-DAFA-46A6-B921-4E17DBB852F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11F6CE-7AC0-4234-88ED-C9D3AC46E0E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ED7BDF-6B6C-4FC3-BB4A-ED4F76A6F3B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F9ABC2-E361-4A3C-9D01-44046D4313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2C13B70-0DF7-4803-A553-F92504CEE5E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F19033-56FD-49C0-AC72-633EB23D1E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B62A95-D36D-4BDA-9016-741C682B8A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DEB280-0789-48EF-8634-B90D97829C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CA3A5F-7D21-4509-B156-0623DEBF57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870B4-5511-4F74-9048-B4E75927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6736C5B-11A1-4670-86CE-11FF573373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63EAD94-BBB8-4FF9-9008-A5AF1BA329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C1BDB3F-FC47-4A0E-B16E-12F82F56C9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E0391B3-30E9-4961-A686-7837FA4F793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5B967A-D1E2-46EB-BCFE-701A5C2C26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90945D-EE3A-40D4-AA81-398D4DB198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182C0A-F931-4D9F-A63A-42A34CFB7D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CCA8FEC-C4F5-483E-B385-CFBBF0F99F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F8A5D0-7B96-4143-8E0F-3CA3D9A36E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2EFA9C-127F-42E4-BEC0-7FA74A8EA8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8CB9-CE19-496E-8201-BF9C7D46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9CBF56-7B32-480A-BC54-6A8D6FC51C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F0D0E8-65B7-4B94-95D2-74E402C611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62C1172-38B3-4DC3-BEB8-861E3872E56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A705EE7-3E6C-4C38-8309-09E3E8C5A93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A13A3F6-4C73-4C35-9958-C312D9E1BBD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EA17960-911F-4160-8FE6-27E8D3A423A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D4F8F4B-5E55-41F6-B1B2-554B4711DDE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6D9340-65A5-43B9-BEDE-33A64A0E0E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6888675-8269-4123-B6A9-B4F43F3C657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7B117DE-995F-42B1-8107-F15B0CE0801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9572-167F-4450-8112-4F80E521F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E5F9A4A-B991-4B71-8B88-016733F4E5B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B9B7F4-71ED-46F4-BA43-AD347457CB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F4E247-FA03-41E0-B81F-94EF498E6C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3DBCB9-E22D-4F0C-A98D-10EE1C7868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C8EE6C6-56AB-4DE6-91C9-7D52D99D2A7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3B6D2B1-4E67-4BEA-9E46-479B6B931BD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0CA604A-B067-4855-ADC7-200130F278E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ECEDACD-F8CB-4FB1-AD17-52B0C377E37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82E630-8578-4735-B08E-D42DC4ECFD0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2BD62CC-3C18-42C3-9F78-6D0F1E3449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BB7E-E687-43D8-93FE-7C72E2C9B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57EB114-C6C3-4CF6-9146-3D89040DDF3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C3E502A-7EDE-41F3-8C54-B5261D74A2B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00B9ACD-57A7-46B5-8BF6-5F13FFDC9A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BB77F1-B95E-43E0-8DB8-72BAEEE9CD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E5244EE-F0C1-455E-94CF-74ADA5428B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09D9348-6406-4A05-81EF-90FE3C3A5A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BB9A27-9F0C-4B3B-97D5-BB0571B1F9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F69135B-D09A-4A9E-9B58-99BA4580AC5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31F4096-1390-4616-AD06-4E317FF820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35C00-9C02-45C8-8495-A915F339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CBE60-C39E-4577-BF75-64C473EC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3CEF-137E-40D9-BFCB-AFB156E6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8CC0-1289-44DF-A46E-DDC8143E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2F1D-6318-4B08-962C-38F10EEEF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A2FF-DF94-4A1F-AEB5-77AF51CF8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BC719-4716-4DB8-927F-54620611C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49D64-BDBB-4770-8F06-09653A2C8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00119-817F-48EF-8E46-6C18F2B55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178B6-D654-4830-BDF1-3831BFA9F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5099F-17F0-4F01-9E6F-5EFFAD137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F60C5-AC7B-40E8-9B3E-2532E4C71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1E69-7A6E-4F02-BAD4-C06BB6830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19EDF-07FC-4EB7-B85F-68B192762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E3083-39E6-4F61-8567-A140781A0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F1432-A813-4EAA-8878-2822CD6F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7882E-471E-4CBC-A555-AD2908B89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2AE3B-A3AD-4388-8BCB-9CDA31F88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FB2DB-27E1-4FFC-9F4B-53A760359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4CA1E-F34B-47A3-8352-271AF0929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0E332-E3E3-4F9B-9488-F31F4D606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8A629-3FA5-4EA9-B2BD-63B56E345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1C7BC-7964-4E78-BB9C-934A9200F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6A19B-E00B-4877-A611-FEC05C836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21570-3A6C-4804-8D40-434CFE186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73A08-1134-48FD-A2EF-BF36674E9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7DB9E-1B63-4287-939C-2E076CB2A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88672-9D1D-4752-9027-7C8CF21D2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681F4-8851-41AC-A435-670A4AB4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85D97-1DC7-4E64-9573-570352686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2BF489-CE9B-466A-AEBB-548EF4C09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765F95-3036-45A6-9D1B-D859B3845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CA3C2-0543-443F-A1DC-B0285D795E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BD616-FFCD-4586-95C9-3D3B56A22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E6F86-0941-4CEB-B2C6-572BFB120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B0E43-4931-4744-88CA-A419F26E7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BEFDA-CD95-424C-A6B3-0DD15BA47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702D3-75C0-45C0-AF81-C9A9D1EB2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EB9FE-0542-4174-805F-36BC6B8BF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99FEE-95B3-4DC0-8832-1DBBA0E5F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26537-7C21-42D6-B9E1-CA8CC1003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0E5E6-7C6A-4816-96E0-61A78E8DE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46D01-7996-45B1-A9AA-7C924ACE7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74A4A-B5EC-428F-89B7-4E8E0BCC0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86C48-9281-491D-97D5-81C22DDED4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7EF74-CCAF-42EE-BF6D-743B226A5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746D5-33B6-4011-ACAB-5A408BCCE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48289-12D8-4C1B-8EB0-F1E2461F1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0AEE8-8E25-4A1B-9909-A924D2DE0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236A1-50DC-4C5F-87D0-5949A0B77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0B2D2-ED7A-40F9-BF8E-76CF3424A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DB6B7-BC1F-40B3-9B64-E0C173B2D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1B0A6-35BF-4D67-A3D7-6E2EF64C0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27EA5-F120-4CF0-A4F1-ECD86A733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77268-B18A-44C1-8147-2102B1EADE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6AB12E-4F79-4C3E-BCD7-31403931D8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BB74F-D152-4DE0-AE61-6868F7930D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8FCB3-9057-4822-92AE-93481D3FC6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B3C72-14FF-44E8-8B12-B6EB62B82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6D18B-3FF0-4C49-AD13-336219085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8264F1-08C5-4A60-B7F3-E164C1D72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05200"/>
            <a:ext cx="8229240" cy="3984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9A8A9-71C0-44A6-9270-2414F6C13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C4BC2-65CA-405E-8E99-F7CF1F4FA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204560"/>
            <a:ext cx="401580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9407B2-B43B-4314-8998-67F58E7E6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A0F2E-5795-4AAA-81E3-B9DE314D6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20456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2764080"/>
            <a:ext cx="822924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E95B5-6EF8-4C4A-B92C-9894101BE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20456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2764080"/>
            <a:ext cx="40158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3B4DF0-1BCC-4C62-9404-341256CEE8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20456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2764080"/>
            <a:ext cx="2649600" cy="1423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6C96EF-23FF-42EB-B49C-684EF0E51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6F25F2-94A5-47A1-91BA-CBD9FB9537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204560"/>
            <a:ext cx="8229240" cy="298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68FEB1-6940-47D5-A78D-1EFCCC27E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4560"/>
            <a:ext cx="8229240" cy="2985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244EE-4F1C-43BB-8A00-97008D63E22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g 1-01.png"/>
          <p:cNvPicPr/>
          <p:nvPr/>
        </p:nvPicPr>
        <p:blipFill>
          <a:blip r:embed="rId2"/>
          <a:stretch/>
        </p:blipFill>
        <p:spPr>
          <a:xfrm>
            <a:off x="3240" y="0"/>
            <a:ext cx="9137520" cy="514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g 1-01.png"/>
          <p:cNvPicPr/>
          <p:nvPr/>
        </p:nvPicPr>
        <p:blipFill>
          <a:blip r:embed="rId2"/>
          <a:stretch/>
        </p:blipFill>
        <p:spPr>
          <a:xfrm>
            <a:off x="3240" y="0"/>
            <a:ext cx="9137520" cy="5148360"/>
          </a:xfrm>
          <a:prstGeom prst="rect">
            <a:avLst/>
          </a:prstGeom>
          <a:ln w="0">
            <a:noFill/>
          </a:ln>
        </p:spPr>
      </p:pic>
      <p:sp>
        <p:nvSpPr>
          <p:cNvPr id="355" name="PlaceHolder 1"/>
          <p:cNvSpPr>
            <a:spLocks noGrp="1"/>
          </p:cNvSpPr>
          <p:nvPr>
            <p:ph type="dt" idx="2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8861-592E-41DB-903D-1483A43187EA}"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356" name="PlaceHolder 2"/>
          <p:cNvSpPr>
            <a:spLocks noGrp="1"/>
          </p:cNvSpPr>
          <p:nvPr>
            <p:ph type="ftr" idx="2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type="sldNum" idx="2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E0C0-4ADE-4A7E-B867-BE3E97C6685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Pág 1-01.png"/>
          <p:cNvPicPr/>
          <p:nvPr/>
        </p:nvPicPr>
        <p:blipFill>
          <a:blip r:embed="rId2"/>
          <a:stretch/>
        </p:blipFill>
        <p:spPr>
          <a:xfrm>
            <a:off x="3240" y="0"/>
            <a:ext cx="9137520" cy="5148360"/>
          </a:xfrm>
          <a:prstGeom prst="rect">
            <a:avLst/>
          </a:prstGeom>
          <a:ln w="0">
            <a:noFill/>
          </a:ln>
        </p:spPr>
      </p:pic>
      <p:sp>
        <p:nvSpPr>
          <p:cNvPr id="395" name="PlaceHolder 1"/>
          <p:cNvSpPr>
            <a:spLocks noGrp="1"/>
          </p:cNvSpPr>
          <p:nvPr>
            <p:ph type="dt" idx="2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A7EE-5EED-41E0-9957-7F887C77BCB0}"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396" name="PlaceHolder 2"/>
          <p:cNvSpPr>
            <a:spLocks noGrp="1"/>
          </p:cNvSpPr>
          <p:nvPr>
            <p:ph type="ftr" idx="2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type="sldNum" idx="2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292C-2BF0-4E65-A115-F71AB6497FB9}"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Pág 1-01.png"/>
          <p:cNvPicPr/>
          <p:nvPr/>
        </p:nvPicPr>
        <p:blipFill>
          <a:blip r:embed="rId2"/>
          <a:stretch/>
        </p:blipFill>
        <p:spPr>
          <a:xfrm>
            <a:off x="3240" y="0"/>
            <a:ext cx="9137520" cy="5148360"/>
          </a:xfrm>
          <a:prstGeom prst="rect">
            <a:avLst/>
          </a:prstGeom>
          <a:ln w="0">
            <a:noFill/>
          </a:ln>
        </p:spPr>
      </p:pic>
      <p:sp>
        <p:nvSpPr>
          <p:cNvPr id="435" name="PlaceHolder 1"/>
          <p:cNvSpPr>
            <a:spLocks noGrp="1"/>
          </p:cNvSpPr>
          <p:nvPr>
            <p:ph type="dt" idx="2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8C1A-D5F4-4215-B1C6-C5D8D820C7AE}"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436" name="PlaceHolder 2"/>
          <p:cNvSpPr>
            <a:spLocks noGrp="1"/>
          </p:cNvSpPr>
          <p:nvPr>
            <p:ph type="ftr" idx="2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type="sldNum" idx="3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366A-1C3F-4A09-91D5-630D098EBFFF}"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Pág 1-01.png"/>
          <p:cNvPicPr/>
          <p:nvPr/>
        </p:nvPicPr>
        <p:blipFill>
          <a:blip r:embed="rId2"/>
          <a:stretch/>
        </p:blipFill>
        <p:spPr>
          <a:xfrm>
            <a:off x="3240" y="0"/>
            <a:ext cx="9137520" cy="5148360"/>
          </a:xfrm>
          <a:prstGeom prst="rect">
            <a:avLst/>
          </a:prstGeom>
          <a:ln w="0">
            <a:noFill/>
          </a:ln>
        </p:spPr>
      </p:pic>
      <p:sp>
        <p:nvSpPr>
          <p:cNvPr id="475" name="PlaceHolder 1"/>
          <p:cNvSpPr>
            <a:spLocks noGrp="1"/>
          </p:cNvSpPr>
          <p:nvPr>
            <p:ph type="dt" idx="3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F3CE-5D81-4CED-BF90-B8F8FE1A46A8}"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476" name="PlaceHolder 2"/>
          <p:cNvSpPr>
            <a:spLocks noGrp="1"/>
          </p:cNvSpPr>
          <p:nvPr>
            <p:ph type="ftr" idx="3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type="sldNum" idx="3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C7F4-E89C-4493-B6B7-F0324AA4637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ppt3.jpg"/>
          <p:cNvPicPr/>
          <p:nvPr/>
        </p:nvPicPr>
        <p:blipFill>
          <a:blip r:embed="rId2"/>
          <a:stretch/>
        </p:blipFill>
        <p:spPr>
          <a:xfrm>
            <a:off x="0" y="0"/>
            <a:ext cx="9144000" cy="5145120"/>
          </a:xfrm>
          <a:prstGeom prst="rect">
            <a:avLst/>
          </a:prstGeom>
          <a:ln w="0">
            <a:noFill/>
          </a:ln>
        </p:spPr>
      </p:pic>
      <p:sp>
        <p:nvSpPr>
          <p:cNvPr id="515" name="PlaceHolder 1"/>
          <p:cNvSpPr>
            <a:spLocks noGrp="1"/>
          </p:cNvSpPr>
          <p:nvPr>
            <p:ph type="dt" idx="3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E526-FB4F-4433-B38D-8593D20103E2}"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516" name="PlaceHolder 2"/>
          <p:cNvSpPr>
            <a:spLocks noGrp="1"/>
          </p:cNvSpPr>
          <p:nvPr>
            <p:ph type="ftr" idx="3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3"/>
          <p:cNvSpPr>
            <a:spLocks noGrp="1"/>
          </p:cNvSpPr>
          <p:nvPr>
            <p:ph type="sldNum" idx="3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8427-A8E0-47C6-ACEE-9354039F8CA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6" descr="ppt3.jpg"/>
          <p:cNvPicPr/>
          <p:nvPr/>
        </p:nvPicPr>
        <p:blipFill>
          <a:blip r:embed="rId2"/>
          <a:stretch/>
        </p:blipFill>
        <p:spPr>
          <a:xfrm>
            <a:off x="0" y="0"/>
            <a:ext cx="9144000" cy="5145120"/>
          </a:xfrm>
          <a:prstGeom prst="rect">
            <a:avLst/>
          </a:prstGeom>
          <a:ln w="0">
            <a:noFill/>
          </a:ln>
        </p:spPr>
      </p:pic>
      <p:sp>
        <p:nvSpPr>
          <p:cNvPr id="555" name="PlaceHolder 1"/>
          <p:cNvSpPr>
            <a:spLocks noGrp="1"/>
          </p:cNvSpPr>
          <p:nvPr>
            <p:ph type="dt" idx="3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201E-8E94-47B2-8E46-D1ED32455C79}"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556" name="PlaceHolder 2"/>
          <p:cNvSpPr>
            <a:spLocks noGrp="1"/>
          </p:cNvSpPr>
          <p:nvPr>
            <p:ph type="ftr" idx="3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type="sldNum" idx="3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D24-046B-48E1-BD38-5E4F72C922E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558" name="PlaceHolder 4"/>
          <p:cNvSpPr>
            <a:spLocks noGrp="1"/>
          </p:cNvSpPr>
          <p:nvPr>
            <p:ph type="title"/>
          </p:nvPr>
        </p:nvSpPr>
        <p:spPr>
          <a:xfrm>
            <a:off x="457200" y="205200"/>
            <a:ext cx="8229240" cy="85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5"/>
          <p:cNvSpPr>
            <a:spLocks noGrp="1"/>
          </p:cNvSpPr>
          <p:nvPr>
            <p:ph type="body"/>
          </p:nvPr>
        </p:nvSpPr>
        <p:spPr>
          <a:xfrm>
            <a:off x="457200" y="1204560"/>
            <a:ext cx="8229240" cy="29854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6" descr="ppt3.jpg"/>
          <p:cNvPicPr/>
          <p:nvPr/>
        </p:nvPicPr>
        <p:blipFill>
          <a:blip r:embed="rId2"/>
          <a:stretch/>
        </p:blipFill>
        <p:spPr>
          <a:xfrm>
            <a:off x="0" y="0"/>
            <a:ext cx="9144000" cy="5145120"/>
          </a:xfrm>
          <a:prstGeom prst="rect">
            <a:avLst/>
          </a:prstGeom>
          <a:ln w="0">
            <a:noFill/>
          </a:ln>
        </p:spPr>
      </p:pic>
      <p:sp>
        <p:nvSpPr>
          <p:cNvPr id="597" name="PlaceHolder 1"/>
          <p:cNvSpPr>
            <a:spLocks noGrp="1"/>
          </p:cNvSpPr>
          <p:nvPr>
            <p:ph type="dt" idx="4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47F4-CA09-4987-9582-15E755BA2C23}"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598" name="PlaceHolder 2"/>
          <p:cNvSpPr>
            <a:spLocks noGrp="1"/>
          </p:cNvSpPr>
          <p:nvPr>
            <p:ph type="ftr" idx="4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type="sldNum" idx="4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8462-DE7F-4611-98E8-EFE73B9E1C10}"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6" descr="ppt3.jpg"/>
          <p:cNvPicPr/>
          <p:nvPr/>
        </p:nvPicPr>
        <p:blipFill>
          <a:blip r:embed="rId2"/>
          <a:stretch/>
        </p:blipFill>
        <p:spPr>
          <a:xfrm>
            <a:off x="0" y="0"/>
            <a:ext cx="9144000" cy="5145120"/>
          </a:xfrm>
          <a:prstGeom prst="rect">
            <a:avLst/>
          </a:prstGeom>
          <a:ln w="0">
            <a:noFill/>
          </a:ln>
        </p:spPr>
      </p:pic>
      <p:sp>
        <p:nvSpPr>
          <p:cNvPr id="637" name="PlaceHolder 1"/>
          <p:cNvSpPr>
            <a:spLocks noGrp="1"/>
          </p:cNvSpPr>
          <p:nvPr>
            <p:ph type="dt" idx="4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AC87-BBE2-4E84-9719-155D7E867F69}"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638" name="PlaceHolder 2"/>
          <p:cNvSpPr>
            <a:spLocks noGrp="1"/>
          </p:cNvSpPr>
          <p:nvPr>
            <p:ph type="ftr" idx="4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type="sldNum" idx="4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2935-9CAD-4729-BDD5-00807E2ED0B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6" descr="ppt3.jpg"/>
          <p:cNvPicPr/>
          <p:nvPr/>
        </p:nvPicPr>
        <p:blipFill>
          <a:blip r:embed="rId2"/>
          <a:stretch/>
        </p:blipFill>
        <p:spPr>
          <a:xfrm>
            <a:off x="0" y="0"/>
            <a:ext cx="9144000" cy="5145120"/>
          </a:xfrm>
          <a:prstGeom prst="rect">
            <a:avLst/>
          </a:prstGeom>
          <a:ln w="0">
            <a:noFill/>
          </a:ln>
        </p:spPr>
      </p:pic>
      <p:sp>
        <p:nvSpPr>
          <p:cNvPr id="677" name="PlaceHolder 1"/>
          <p:cNvSpPr>
            <a:spLocks noGrp="1"/>
          </p:cNvSpPr>
          <p:nvPr>
            <p:ph type="dt" idx="4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D936-A0D0-43C7-9765-EED45391959B}"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678" name="PlaceHolder 2"/>
          <p:cNvSpPr>
            <a:spLocks noGrp="1"/>
          </p:cNvSpPr>
          <p:nvPr>
            <p:ph type="ftr" idx="4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3"/>
          <p:cNvSpPr>
            <a:spLocks noGrp="1"/>
          </p:cNvSpPr>
          <p:nvPr>
            <p:ph type="sldNum" idx="4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DCF8-8E3F-47C2-AF2F-6727AA433AE2}"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Picture 6" descr="ppt3.jpg"/>
          <p:cNvPicPr/>
          <p:nvPr/>
        </p:nvPicPr>
        <p:blipFill>
          <a:blip r:embed="rId2"/>
          <a:stretch/>
        </p:blipFill>
        <p:spPr>
          <a:xfrm>
            <a:off x="0" y="0"/>
            <a:ext cx="9144000" cy="5145120"/>
          </a:xfrm>
          <a:prstGeom prst="rect">
            <a:avLst/>
          </a:prstGeom>
          <a:ln w="0">
            <a:noFill/>
          </a:ln>
        </p:spPr>
      </p:pic>
      <p:sp>
        <p:nvSpPr>
          <p:cNvPr id="717" name="PlaceHolder 1"/>
          <p:cNvSpPr>
            <a:spLocks noGrp="1"/>
          </p:cNvSpPr>
          <p:nvPr>
            <p:ph type="dt" idx="4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45C2-64AE-4184-80F9-8F7A4E55F495}"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718" name="PlaceHolder 2"/>
          <p:cNvSpPr>
            <a:spLocks noGrp="1"/>
          </p:cNvSpPr>
          <p:nvPr>
            <p:ph type="ftr" idx="5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type="sldNum" idx="5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B69A-4AAB-40F2-9A41-EA1C6ADD8D6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pt3.jpg"/>
          <p:cNvPicPr/>
          <p:nvPr/>
        </p:nvPicPr>
        <p:blipFill>
          <a:blip r:embed="rId2"/>
          <a:stretch/>
        </p:blipFill>
        <p:spPr>
          <a:xfrm>
            <a:off x="0" y="0"/>
            <a:ext cx="9144000" cy="514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Picture 6" descr="ppt3.jpg"/>
          <p:cNvPicPr/>
          <p:nvPr/>
        </p:nvPicPr>
        <p:blipFill>
          <a:blip r:embed="rId2"/>
          <a:stretch/>
        </p:blipFill>
        <p:spPr>
          <a:xfrm>
            <a:off x="0" y="0"/>
            <a:ext cx="9144000" cy="5145120"/>
          </a:xfrm>
          <a:prstGeom prst="rect">
            <a:avLst/>
          </a:prstGeom>
          <a:ln w="0">
            <a:noFill/>
          </a:ln>
        </p:spPr>
      </p:pic>
      <p:sp>
        <p:nvSpPr>
          <p:cNvPr id="757" name="PlaceHolder 1"/>
          <p:cNvSpPr>
            <a:spLocks noGrp="1"/>
          </p:cNvSpPr>
          <p:nvPr>
            <p:ph type="dt" idx="52"/>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C93F-231A-438C-812D-1311D794AB70}"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758" name="PlaceHolder 2"/>
          <p:cNvSpPr>
            <a:spLocks noGrp="1"/>
          </p:cNvSpPr>
          <p:nvPr>
            <p:ph type="ftr" idx="53"/>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type="sldNum" idx="54"/>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5D7E-369F-418F-A3B3-928DFA37E410}"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ppt3.jpg"/>
          <p:cNvPicPr/>
          <p:nvPr/>
        </p:nvPicPr>
        <p:blipFill>
          <a:blip r:embed="rId2"/>
          <a:stretch/>
        </p:blipFill>
        <p:spPr>
          <a:xfrm>
            <a:off x="0" y="0"/>
            <a:ext cx="9144000" cy="5145120"/>
          </a:xfrm>
          <a:prstGeom prst="rect">
            <a:avLst/>
          </a:prstGeom>
          <a:ln w="0">
            <a:noFill/>
          </a:ln>
        </p:spPr>
      </p:pic>
      <p:sp>
        <p:nvSpPr>
          <p:cNvPr id="797" name="PlaceHolder 1"/>
          <p:cNvSpPr>
            <a:spLocks noGrp="1"/>
          </p:cNvSpPr>
          <p:nvPr>
            <p:ph type="dt" idx="55"/>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9617-02FF-4153-A483-7363DAFB83C3}"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798" name="PlaceHolder 2"/>
          <p:cNvSpPr>
            <a:spLocks noGrp="1"/>
          </p:cNvSpPr>
          <p:nvPr>
            <p:ph type="ftr" idx="56"/>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type="sldNum" idx="57"/>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529E-B5EC-4FF0-91FA-2E44E3DEC22A}"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6" descr="ppt3.jpg"/>
          <p:cNvPicPr/>
          <p:nvPr/>
        </p:nvPicPr>
        <p:blipFill>
          <a:blip r:embed="rId2"/>
          <a:stretch/>
        </p:blipFill>
        <p:spPr>
          <a:xfrm>
            <a:off x="0" y="0"/>
            <a:ext cx="9144000" cy="5145120"/>
          </a:xfrm>
          <a:prstGeom prst="rect">
            <a:avLst/>
          </a:prstGeom>
          <a:ln w="0">
            <a:noFill/>
          </a:ln>
        </p:spPr>
      </p:pic>
      <p:sp>
        <p:nvSpPr>
          <p:cNvPr id="837" name="PlaceHolder 1"/>
          <p:cNvSpPr>
            <a:spLocks noGrp="1"/>
          </p:cNvSpPr>
          <p:nvPr>
            <p:ph type="dt" idx="58"/>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5E89-8174-4EDE-A59D-A9BFB6B9E9A9}"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838" name="PlaceHolder 2"/>
          <p:cNvSpPr>
            <a:spLocks noGrp="1"/>
          </p:cNvSpPr>
          <p:nvPr>
            <p:ph type="ftr" idx="59"/>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3"/>
          <p:cNvSpPr>
            <a:spLocks noGrp="1"/>
          </p:cNvSpPr>
          <p:nvPr>
            <p:ph type="sldNum" idx="60"/>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FE11-E868-49FA-B997-98458E42682C}"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6" descr="ppt3.jpg"/>
          <p:cNvPicPr/>
          <p:nvPr/>
        </p:nvPicPr>
        <p:blipFill>
          <a:blip r:embed="rId2"/>
          <a:stretch/>
        </p:blipFill>
        <p:spPr>
          <a:xfrm>
            <a:off x="0" y="0"/>
            <a:ext cx="9144000" cy="5145120"/>
          </a:xfrm>
          <a:prstGeom prst="rect">
            <a:avLst/>
          </a:prstGeom>
          <a:ln w="0">
            <a:noFill/>
          </a:ln>
        </p:spPr>
      </p:pic>
      <p:sp>
        <p:nvSpPr>
          <p:cNvPr id="877" name="PlaceHolder 1"/>
          <p:cNvSpPr>
            <a:spLocks noGrp="1"/>
          </p:cNvSpPr>
          <p:nvPr>
            <p:ph type="dt" idx="6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2FA8-8263-4C10-9CAC-6BD663FF4488}"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878" name="PlaceHolder 2"/>
          <p:cNvSpPr>
            <a:spLocks noGrp="1"/>
          </p:cNvSpPr>
          <p:nvPr>
            <p:ph type="ftr" idx="6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PlaceHolder 3"/>
          <p:cNvSpPr>
            <a:spLocks noGrp="1"/>
          </p:cNvSpPr>
          <p:nvPr>
            <p:ph type="sldNum" idx="6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F316-283D-455E-94F7-1A9EF1B97996}"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6" descr="ppt3.jpg"/>
          <p:cNvPicPr/>
          <p:nvPr/>
        </p:nvPicPr>
        <p:blipFill>
          <a:blip r:embed="rId2"/>
          <a:stretch/>
        </p:blipFill>
        <p:spPr>
          <a:xfrm>
            <a:off x="0" y="0"/>
            <a:ext cx="9144000" cy="5145120"/>
          </a:xfrm>
          <a:prstGeom prst="rect">
            <a:avLst/>
          </a:prstGeom>
          <a:ln w="0">
            <a:noFill/>
          </a:ln>
        </p:spPr>
      </p:pic>
      <p:sp>
        <p:nvSpPr>
          <p:cNvPr id="917" name="PlaceHolder 1"/>
          <p:cNvSpPr>
            <a:spLocks noGrp="1"/>
          </p:cNvSpPr>
          <p:nvPr>
            <p:ph type="dt" idx="6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F4BE-A75F-46E8-8B57-684827C8913F}"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918" name="PlaceHolder 2"/>
          <p:cNvSpPr>
            <a:spLocks noGrp="1"/>
          </p:cNvSpPr>
          <p:nvPr>
            <p:ph type="ftr" idx="6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PlaceHolder 3"/>
          <p:cNvSpPr>
            <a:spLocks noGrp="1"/>
          </p:cNvSpPr>
          <p:nvPr>
            <p:ph type="sldNum" idx="6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FCAB-857B-411C-802E-EDDFC52F42B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Pág 1-01.png"/>
          <p:cNvPicPr/>
          <p:nvPr/>
        </p:nvPicPr>
        <p:blipFill>
          <a:blip r:embed="rId2"/>
          <a:stretch/>
        </p:blipFill>
        <p:spPr>
          <a:xfrm>
            <a:off x="3240" y="0"/>
            <a:ext cx="9137520" cy="5148360"/>
          </a:xfrm>
          <a:prstGeom prst="rect">
            <a:avLst/>
          </a:prstGeom>
          <a:ln w="0">
            <a:noFill/>
          </a:ln>
        </p:spPr>
      </p:pic>
      <p:sp>
        <p:nvSpPr>
          <p:cNvPr id="75" name="PlaceHolder 1"/>
          <p:cNvSpPr>
            <a:spLocks noGrp="1"/>
          </p:cNvSpPr>
          <p:nvPr>
            <p:ph type="dt" idx="1"/>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A8D7-F0F5-4632-9A1E-DE06FBC5B862}"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76" name="PlaceHolder 2"/>
          <p:cNvSpPr>
            <a:spLocks noGrp="1"/>
          </p:cNvSpPr>
          <p:nvPr>
            <p:ph type="ftr" idx="2"/>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type="sldNum" idx="3"/>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10AB-7758-4714-B9B2-49C982C4653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ág 1-01.png"/>
          <p:cNvPicPr/>
          <p:nvPr/>
        </p:nvPicPr>
        <p:blipFill>
          <a:blip r:embed="rId2"/>
          <a:stretch/>
        </p:blipFill>
        <p:spPr>
          <a:xfrm>
            <a:off x="3240" y="0"/>
            <a:ext cx="9137520" cy="5148360"/>
          </a:xfrm>
          <a:prstGeom prst="rect">
            <a:avLst/>
          </a:prstGeom>
          <a:ln w="0">
            <a:noFill/>
          </a:ln>
        </p:spPr>
      </p:pic>
      <p:sp>
        <p:nvSpPr>
          <p:cNvPr id="115" name="PlaceHolder 1"/>
          <p:cNvSpPr>
            <a:spLocks noGrp="1"/>
          </p:cNvSpPr>
          <p:nvPr>
            <p:ph type="dt" idx="4"/>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D903-4F43-43D5-BEF0-D0129735DE47}"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116" name="PlaceHolder 2"/>
          <p:cNvSpPr>
            <a:spLocks noGrp="1"/>
          </p:cNvSpPr>
          <p:nvPr>
            <p:ph type="ftr" idx="5"/>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type="sldNum" idx="6"/>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A953-2184-418C-ACF2-6949E977094D}"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Pág 1-01.png"/>
          <p:cNvPicPr/>
          <p:nvPr/>
        </p:nvPicPr>
        <p:blipFill>
          <a:blip r:embed="rId2"/>
          <a:stretch/>
        </p:blipFill>
        <p:spPr>
          <a:xfrm>
            <a:off x="3240" y="0"/>
            <a:ext cx="9137520" cy="5148360"/>
          </a:xfrm>
          <a:prstGeom prst="rect">
            <a:avLst/>
          </a:prstGeom>
          <a:ln w="0">
            <a:noFill/>
          </a:ln>
        </p:spPr>
      </p:pic>
      <p:sp>
        <p:nvSpPr>
          <p:cNvPr id="155" name="PlaceHolder 1"/>
          <p:cNvSpPr>
            <a:spLocks noGrp="1"/>
          </p:cNvSpPr>
          <p:nvPr>
            <p:ph type="dt" idx="7"/>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25A-1751-4155-B8E6-C45ED6FAB17A}"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156" name="PlaceHolder 2"/>
          <p:cNvSpPr>
            <a:spLocks noGrp="1"/>
          </p:cNvSpPr>
          <p:nvPr>
            <p:ph type="ftr" idx="8"/>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type="sldNum" idx="9"/>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1D3D-1C99-497A-958F-D299A1B12E19}"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Pág 1-01.png"/>
          <p:cNvPicPr/>
          <p:nvPr/>
        </p:nvPicPr>
        <p:blipFill>
          <a:blip r:embed="rId2"/>
          <a:stretch/>
        </p:blipFill>
        <p:spPr>
          <a:xfrm>
            <a:off x="3240" y="0"/>
            <a:ext cx="9137520" cy="5148360"/>
          </a:xfrm>
          <a:prstGeom prst="rect">
            <a:avLst/>
          </a:prstGeom>
          <a:ln w="0">
            <a:noFill/>
          </a:ln>
        </p:spPr>
      </p:pic>
      <p:sp>
        <p:nvSpPr>
          <p:cNvPr id="195" name="PlaceHolder 1"/>
          <p:cNvSpPr>
            <a:spLocks noGrp="1"/>
          </p:cNvSpPr>
          <p:nvPr>
            <p:ph type="dt" idx="10"/>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E2F2-ACBB-4F8E-9A15-0BC95029AB54}"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196" name="PlaceHolder 2"/>
          <p:cNvSpPr>
            <a:spLocks noGrp="1"/>
          </p:cNvSpPr>
          <p:nvPr>
            <p:ph type="ftr" idx="11"/>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type="sldNum" idx="12"/>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FDB9-E444-48B1-A2A8-C9527B957202}"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Pág 1-01.png"/>
          <p:cNvPicPr/>
          <p:nvPr/>
        </p:nvPicPr>
        <p:blipFill>
          <a:blip r:embed="rId2"/>
          <a:stretch/>
        </p:blipFill>
        <p:spPr>
          <a:xfrm>
            <a:off x="3240" y="0"/>
            <a:ext cx="9137520" cy="5148360"/>
          </a:xfrm>
          <a:prstGeom prst="rect">
            <a:avLst/>
          </a:prstGeom>
          <a:ln w="0">
            <a:noFill/>
          </a:ln>
        </p:spPr>
      </p:pic>
      <p:sp>
        <p:nvSpPr>
          <p:cNvPr id="235" name="PlaceHolder 1"/>
          <p:cNvSpPr>
            <a:spLocks noGrp="1"/>
          </p:cNvSpPr>
          <p:nvPr>
            <p:ph type="dt" idx="13"/>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AA0C-5C9F-4825-93CB-1E0411C3C41D}"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236" name="PlaceHolder 2"/>
          <p:cNvSpPr>
            <a:spLocks noGrp="1"/>
          </p:cNvSpPr>
          <p:nvPr>
            <p:ph type="ftr" idx="14"/>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type="sldNum" idx="15"/>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D2E2-44B9-4EA9-A7CE-90D784C1EF8E}"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Pág 1-01.png"/>
          <p:cNvPicPr/>
          <p:nvPr/>
        </p:nvPicPr>
        <p:blipFill>
          <a:blip r:embed="rId2"/>
          <a:stretch/>
        </p:blipFill>
        <p:spPr>
          <a:xfrm>
            <a:off x="3240" y="0"/>
            <a:ext cx="9137520" cy="5148360"/>
          </a:xfrm>
          <a:prstGeom prst="rect">
            <a:avLst/>
          </a:prstGeom>
          <a:ln w="0">
            <a:noFill/>
          </a:ln>
        </p:spPr>
      </p:pic>
      <p:sp>
        <p:nvSpPr>
          <p:cNvPr id="275" name="PlaceHolder 1"/>
          <p:cNvSpPr>
            <a:spLocks noGrp="1"/>
          </p:cNvSpPr>
          <p:nvPr>
            <p:ph type="dt" idx="16"/>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0B56-1201-4324-A026-0D2DF85F3EAF}"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276" name="PlaceHolder 2"/>
          <p:cNvSpPr>
            <a:spLocks noGrp="1"/>
          </p:cNvSpPr>
          <p:nvPr>
            <p:ph type="ftr" idx="17"/>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type="sldNum" idx="18"/>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A8A3-AD05-41D1-A0EF-89695815498B}"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Pág 1-01.png"/>
          <p:cNvPicPr/>
          <p:nvPr/>
        </p:nvPicPr>
        <p:blipFill>
          <a:blip r:embed="rId2"/>
          <a:stretch/>
        </p:blipFill>
        <p:spPr>
          <a:xfrm>
            <a:off x="3240" y="0"/>
            <a:ext cx="9137520" cy="5148360"/>
          </a:xfrm>
          <a:prstGeom prst="rect">
            <a:avLst/>
          </a:prstGeom>
          <a:ln w="0">
            <a:noFill/>
          </a:ln>
        </p:spPr>
      </p:pic>
      <p:sp>
        <p:nvSpPr>
          <p:cNvPr id="315" name="PlaceHolder 1"/>
          <p:cNvSpPr>
            <a:spLocks noGrp="1"/>
          </p:cNvSpPr>
          <p:nvPr>
            <p:ph type="dt" idx="19"/>
          </p:nvPr>
        </p:nvSpPr>
        <p:spPr>
          <a:xfrm>
            <a:off x="45684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C2B7-C23B-4288-BC3D-951F746F3052}" type="datetime">
              <a:rPr b="0" lang="pt-BR" sz="1800" spc="-1" strike="noStrike">
                <a:solidFill>
                  <a:srgbClr val="000000"/>
                </a:solidFill>
                <a:latin typeface="Calibri"/>
              </a:rPr>
              <a:t>30/07/26</a:t>
            </a:fld>
            <a:endParaRPr b="0" lang="en-US" sz="1800" spc="-1" strike="noStrike">
              <a:solidFill>
                <a:srgbClr val="000000"/>
              </a:solidFill>
              <a:latin typeface="Times New Roman"/>
            </a:endParaRPr>
          </a:p>
        </p:txBody>
      </p:sp>
      <p:sp>
        <p:nvSpPr>
          <p:cNvPr id="316" name="PlaceHolder 2"/>
          <p:cNvSpPr>
            <a:spLocks noGrp="1"/>
          </p:cNvSpPr>
          <p:nvPr>
            <p:ph type="ftr" idx="20"/>
          </p:nvPr>
        </p:nvSpPr>
        <p:spPr>
          <a:xfrm>
            <a:off x="3124080" y="4772160"/>
            <a:ext cx="2895840" cy="27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3"/>
          <p:cNvSpPr>
            <a:spLocks noGrp="1"/>
          </p:cNvSpPr>
          <p:nvPr>
            <p:ph type="sldNum" idx="21"/>
          </p:nvPr>
        </p:nvSpPr>
        <p:spPr>
          <a:xfrm>
            <a:off x="6552720" y="4772160"/>
            <a:ext cx="2133720" cy="272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6C6B-B5F2-42A5-BE61-B55406A43C8A}" type="slidenum">
              <a:rPr b="0" lang="pt-B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2115720"/>
            <a:ext cx="7627680" cy="1219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ffff"/>
                </a:solidFill>
                <a:latin typeface="Verdana"/>
              </a:rPr>
              <a:t>Title of Presentation</a:t>
            </a:r>
            <a:endParaRPr b="0" lang="en-US" sz="3000" spc="-1" strike="noStrike">
              <a:solidFill>
                <a:srgbClr val="000000"/>
              </a:solidFill>
              <a:latin typeface="Calibri"/>
            </a:endParaRPr>
          </a:p>
        </p:txBody>
      </p:sp>
      <p:sp>
        <p:nvSpPr>
          <p:cNvPr id="957" name="Texto Explicativo 1 (Ênfase) 9"/>
          <p:cNvSpPr/>
          <p:nvPr/>
        </p:nvSpPr>
        <p:spPr>
          <a:xfrm>
            <a:off x="8585280" y="2193840"/>
            <a:ext cx="3241440" cy="433440"/>
          </a:xfrm>
          <a:custGeom>
            <a:avLst/>
            <a:gdLst/>
            <a:ahLst/>
            <a:rect l="l" t="t" r="r" b="b"/>
            <a:pathLst>
              <a:path stroke="0" w="21600" h="21600">
                <a:moveTo>
                  <a:pt x="0" y="0"/>
                </a:moveTo>
                <a:lnTo>
                  <a:pt x="21600" y="0"/>
                </a:lnTo>
                <a:lnTo>
                  <a:pt x="21600" y="21600"/>
                </a:lnTo>
                <a:lnTo>
                  <a:pt x="0" y="21600"/>
                </a:lnTo>
                <a:close/>
              </a:path>
              <a:path w="21600" h="21600">
                <a:moveTo>
                  <a:pt x="-21683" y="1056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0 / italic Bold</a:t>
            </a:r>
            <a:endParaRPr b="0" lang="en-US" sz="1200" spc="-1" strike="noStrike">
              <a:solidFill>
                <a:srgbClr val="000000"/>
              </a:solidFill>
              <a:latin typeface="Arial"/>
            </a:endParaRPr>
          </a:p>
        </p:txBody>
      </p:sp>
      <p:sp>
        <p:nvSpPr>
          <p:cNvPr id="958" name="Título 1"/>
          <p:cNvSpPr/>
          <p:nvPr/>
        </p:nvSpPr>
        <p:spPr>
          <a:xfrm>
            <a:off x="378000" y="3006720"/>
            <a:ext cx="7627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Arial"/>
              </a:rPr>
              <a:t>Author</a:t>
            </a:r>
            <a:endParaRPr b="0" lang="en-US" sz="2800" spc="-1" strike="noStrike">
              <a:solidFill>
                <a:srgbClr val="000000"/>
              </a:solidFill>
              <a:latin typeface="Arial"/>
            </a:endParaRPr>
          </a:p>
        </p:txBody>
      </p:sp>
      <p:sp>
        <p:nvSpPr>
          <p:cNvPr id="959" name="Texto Explicativo 1 (Ênfase) 11"/>
          <p:cNvSpPr/>
          <p:nvPr/>
        </p:nvSpPr>
        <p:spPr>
          <a:xfrm>
            <a:off x="9053640" y="3546360"/>
            <a:ext cx="2952720" cy="540000"/>
          </a:xfrm>
          <a:custGeom>
            <a:avLst/>
            <a:gdLst/>
            <a:ahLst/>
            <a:rect l="l" t="t" r="r" b="b"/>
            <a:pathLst>
              <a:path stroke="0" w="21600" h="21600">
                <a:moveTo>
                  <a:pt x="0" y="0"/>
                </a:moveTo>
                <a:lnTo>
                  <a:pt x="21600" y="0"/>
                </a:lnTo>
                <a:lnTo>
                  <a:pt x="21600" y="21600"/>
                </a:lnTo>
                <a:lnTo>
                  <a:pt x="0" y="21600"/>
                </a:lnTo>
                <a:close/>
              </a:path>
              <a:path w="21600" h="21600">
                <a:moveTo>
                  <a:pt x="-51318" y="3773"/>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ea typeface="Arial"/>
              </a:rPr>
              <a:t>Verdana – size 28 / italic Bol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1"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62" name="Espaço Reservado para Conteúdo 6"/>
          <p:cNvSpPr/>
          <p:nvPr/>
        </p:nvSpPr>
        <p:spPr>
          <a:xfrm>
            <a:off x="468360" y="1743120"/>
            <a:ext cx="8229600" cy="20732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 ultrices risus. Sed scelerisque ex at felis ultrices egestas. Integer viverra feugiat nulla, vel consequat nulla ultricies id.</a:t>
            </a:r>
            <a:endParaRPr b="0" lang="en-US" sz="1700" spc="-1" strike="noStrike">
              <a:solidFill>
                <a:srgbClr val="000000"/>
              </a:solidFill>
              <a:latin typeface="Arial"/>
            </a:endParaRPr>
          </a:p>
        </p:txBody>
      </p:sp>
      <p:sp>
        <p:nvSpPr>
          <p:cNvPr id="963" name="Texto Explicativo 1 (Ênfase) 4"/>
          <p:cNvSpPr/>
          <p:nvPr/>
        </p:nvSpPr>
        <p:spPr>
          <a:xfrm>
            <a:off x="5724360" y="87480"/>
            <a:ext cx="3168720" cy="431640"/>
          </a:xfrm>
          <a:custGeom>
            <a:avLst/>
            <a:gdLst/>
            <a:ahLst/>
            <a:rect l="l" t="t" r="r" b="b"/>
            <a:pathLst>
              <a:path stroke="0" w="21600" h="21600">
                <a:moveTo>
                  <a:pt x="0" y="0"/>
                </a:moveTo>
                <a:lnTo>
                  <a:pt x="21600" y="0"/>
                </a:lnTo>
                <a:lnTo>
                  <a:pt x="21600" y="21600"/>
                </a:lnTo>
                <a:lnTo>
                  <a:pt x="0" y="21600"/>
                </a:lnTo>
                <a:close/>
              </a:path>
              <a:path w="21600" h="21600">
                <a:moveTo>
                  <a:pt x="-24044" y="24256"/>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38 / Bold italic</a:t>
            </a:r>
            <a:endParaRPr b="0" lang="en-US" sz="1200" spc="-1" strike="noStrike">
              <a:solidFill>
                <a:srgbClr val="000000"/>
              </a:solidFill>
              <a:latin typeface="Arial"/>
            </a:endParaRPr>
          </a:p>
        </p:txBody>
      </p:sp>
      <p:sp>
        <p:nvSpPr>
          <p:cNvPr id="964" name="Texto Explicativo 1 (Ênfase) 8"/>
          <p:cNvSpPr/>
          <p:nvPr/>
        </p:nvSpPr>
        <p:spPr>
          <a:xfrm>
            <a:off x="8532720" y="628560"/>
            <a:ext cx="2879640" cy="540000"/>
          </a:xfrm>
          <a:custGeom>
            <a:avLst/>
            <a:gdLst/>
            <a:ahLst/>
            <a:rect l="l" t="t" r="r" b="b"/>
            <a:pathLst>
              <a:path stroke="0" w="21600" h="21600">
                <a:moveTo>
                  <a:pt x="0" y="0"/>
                </a:moveTo>
                <a:lnTo>
                  <a:pt x="21600" y="0"/>
                </a:lnTo>
                <a:lnTo>
                  <a:pt x="21600" y="21600"/>
                </a:lnTo>
                <a:lnTo>
                  <a:pt x="0" y="21600"/>
                </a:lnTo>
                <a:close/>
              </a:path>
              <a:path w="21600" h="21600">
                <a:moveTo>
                  <a:pt x="-48850" y="18198"/>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20 / Bold italic</a:t>
            </a:r>
            <a:endParaRPr b="0" lang="en-US" sz="1200" spc="-1" strike="noStrike">
              <a:solidFill>
                <a:srgbClr val="000000"/>
              </a:solidFill>
              <a:latin typeface="Arial"/>
            </a:endParaRPr>
          </a:p>
        </p:txBody>
      </p:sp>
      <p:sp>
        <p:nvSpPr>
          <p:cNvPr id="965" name="Texto Explicativo 1 (Ênfase) 9"/>
          <p:cNvSpPr/>
          <p:nvPr/>
        </p:nvSpPr>
        <p:spPr>
          <a:xfrm>
            <a:off x="9540720" y="2286000"/>
            <a:ext cx="259272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Espaço Reservado para Conteúdo 6"/>
          <p:cNvSpPr/>
          <p:nvPr/>
        </p:nvSpPr>
        <p:spPr>
          <a:xfrm>
            <a:off x="468360" y="1743120"/>
            <a:ext cx="8229600" cy="15876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Lorem ipsum dolor sit amet, consectetur adipiscing elit.</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Aenean laoreet lacus placerat erat congue.</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Pellentesque sit amet felis non metus finibus.</a:t>
            </a:r>
            <a:endParaRPr b="0" lang="en-US" sz="1800" spc="-1" strike="noStrike">
              <a:solidFill>
                <a:srgbClr val="000000"/>
              </a:solidFill>
              <a:latin typeface="Arial"/>
            </a:endParaRPr>
          </a:p>
          <a:p>
            <a:pPr>
              <a:lnSpc>
                <a:spcPct val="150000"/>
              </a:lnSpc>
              <a:spcBef>
                <a:spcPts val="99"/>
              </a:spcBef>
              <a:spcAft>
                <a:spcPts val="99"/>
              </a:spcAft>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595959"/>
                </a:solidFill>
                <a:latin typeface="Verdana"/>
              </a:rPr>
              <a:t>Quisque id nibh aliquet sapien mollis dapibus vel.</a:t>
            </a:r>
            <a:endParaRPr b="0" lang="en-US" sz="1800" spc="-1" strike="noStrike">
              <a:solidFill>
                <a:srgbClr val="000000"/>
              </a:solidFill>
              <a:latin typeface="Arial"/>
            </a:endParaRPr>
          </a:p>
        </p:txBody>
      </p:sp>
      <p:sp>
        <p:nvSpPr>
          <p:cNvPr id="967" name="Texto Explicativo 1 (Ênfase) 6"/>
          <p:cNvSpPr/>
          <p:nvPr/>
        </p:nvSpPr>
        <p:spPr>
          <a:xfrm>
            <a:off x="9540720" y="1655640"/>
            <a:ext cx="2592720" cy="1258920"/>
          </a:xfrm>
          <a:custGeom>
            <a:avLst/>
            <a:gdLst/>
            <a:ahLst/>
            <a:rect l="l" t="t" r="r" b="b"/>
            <a:pathLst>
              <a:path stroke="0" w="21600" h="21600">
                <a:moveTo>
                  <a:pt x="0" y="0"/>
                </a:moveTo>
                <a:lnTo>
                  <a:pt x="21600" y="0"/>
                </a:lnTo>
                <a:lnTo>
                  <a:pt x="21600" y="21600"/>
                </a:lnTo>
                <a:lnTo>
                  <a:pt x="0" y="21600"/>
                </a:lnTo>
                <a:close/>
              </a:path>
              <a:path w="21600" h="21600">
                <a:moveTo>
                  <a:pt x="-10154" y="7404"/>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Circle Bull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ea typeface="Arial"/>
              </a:rPr>
              <a:t>between lines 1,5</a:t>
            </a:r>
            <a:endParaRPr b="0" lang="en-US" sz="1400" spc="-1" strike="noStrike">
              <a:solidFill>
                <a:srgbClr val="000000"/>
              </a:solidFill>
              <a:latin typeface="Arial"/>
            </a:endParaRPr>
          </a:p>
        </p:txBody>
      </p:sp>
      <p:sp>
        <p:nvSpPr>
          <p:cNvPr id="968" name="PlaceHolder 1"/>
          <p:cNvSpPr>
            <a:spLocks noGrp="1"/>
          </p:cNvSpPr>
          <p:nvPr>
            <p:ph type="title"/>
          </p:nvPr>
        </p:nvSpPr>
        <p:spPr>
          <a:xfrm>
            <a:off x="456840" y="205920"/>
            <a:ext cx="4475160" cy="652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69"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4"/>
          <p:cNvSpPr/>
          <p:nvPr/>
        </p:nvSpPr>
        <p:spPr>
          <a:xfrm>
            <a:off x="4446720" y="1316160"/>
            <a:ext cx="4392360" cy="2323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CaixaDeTexto 10"/>
          <p:cNvSpPr/>
          <p:nvPr/>
        </p:nvSpPr>
        <p:spPr>
          <a:xfrm>
            <a:off x="6031080" y="2467080"/>
            <a:ext cx="122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72" name="PlaceHolder 1"/>
          <p:cNvSpPr>
            <a:spLocks noGrp="1"/>
          </p:cNvSpPr>
          <p:nvPr>
            <p:ph type="title"/>
          </p:nvPr>
        </p:nvSpPr>
        <p:spPr>
          <a:xfrm>
            <a:off x="456840" y="205920"/>
            <a:ext cx="4475160" cy="709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3" name="Espaço Reservado para Conteúdo 6"/>
          <p:cNvSpPr/>
          <p:nvPr/>
        </p:nvSpPr>
        <p:spPr>
          <a:xfrm>
            <a:off x="457200" y="898560"/>
            <a:ext cx="3610080" cy="3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Arial"/>
            </a:endParaRPr>
          </a:p>
        </p:txBody>
      </p:sp>
      <p:sp>
        <p:nvSpPr>
          <p:cNvPr id="974"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75" name="CaixaDeTexto 10"/>
          <p:cNvSpPr/>
          <p:nvPr/>
        </p:nvSpPr>
        <p:spPr>
          <a:xfrm>
            <a:off x="6031080" y="2251080"/>
            <a:ext cx="122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76" name="Espaço Reservado para Conteúdo 6"/>
          <p:cNvSpPr/>
          <p:nvPr/>
        </p:nvSpPr>
        <p:spPr>
          <a:xfrm>
            <a:off x="468360" y="1546200"/>
            <a:ext cx="3646440" cy="2595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595959"/>
                </a:solidFill>
                <a:latin typeface="Verdana"/>
              </a:rPr>
              <a:t>Lorem ipsum dolor sit amet, consectetur adipiscing elit. In semper tellus nulla, commodo scelerisque eros consectetur ut. Quisque eu odio sagittis, scelerisque mauris ve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CaixaDeTexto 10"/>
          <p:cNvSpPr/>
          <p:nvPr/>
        </p:nvSpPr>
        <p:spPr>
          <a:xfrm>
            <a:off x="7164360" y="2736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78"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79"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80" name="Espaço Reservado para Conteúdo 6"/>
          <p:cNvSpPr/>
          <p:nvPr/>
        </p:nvSpPr>
        <p:spPr>
          <a:xfrm>
            <a:off x="468360" y="1430280"/>
            <a:ext cx="8229600" cy="7779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81" name="Rectangle 23"/>
          <p:cNvSpPr/>
          <p:nvPr/>
        </p:nvSpPr>
        <p:spPr>
          <a:xfrm>
            <a:off x="704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CaixaDeTexto 10"/>
          <p:cNvSpPr/>
          <p:nvPr/>
        </p:nvSpPr>
        <p:spPr>
          <a:xfrm>
            <a:off x="1889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3" name="CaixaDeTexto 10"/>
          <p:cNvSpPr/>
          <p:nvPr/>
        </p:nvSpPr>
        <p:spPr>
          <a:xfrm>
            <a:off x="1889280" y="2660760"/>
            <a:ext cx="123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84" name="Texto Explicativo 1 (Ênfase) 9"/>
          <p:cNvSpPr/>
          <p:nvPr/>
        </p:nvSpPr>
        <p:spPr>
          <a:xfrm>
            <a:off x="9685440" y="1276200"/>
            <a:ext cx="2590560" cy="649440"/>
          </a:xfrm>
          <a:custGeom>
            <a:avLst/>
            <a:gdLst/>
            <a:ahLst/>
            <a:rect l="l" t="t" r="r" b="b"/>
            <a:pathLst>
              <a:path stroke="0" w="21600" h="21600">
                <a:moveTo>
                  <a:pt x="0" y="0"/>
                </a:moveTo>
                <a:lnTo>
                  <a:pt x="21600" y="0"/>
                </a:lnTo>
                <a:lnTo>
                  <a:pt x="21600" y="21600"/>
                </a:lnTo>
                <a:lnTo>
                  <a:pt x="0" y="21600"/>
                </a:lnTo>
                <a:close/>
              </a:path>
              <a:path w="21600" h="21600">
                <a:moveTo>
                  <a:pt x="-8144" y="12309"/>
                </a:moveTo>
                <a:lnTo>
                  <a:pt x="-1800" y="4000"/>
                </a:lnTo>
              </a:path>
              <a:path w="21600" h="21600">
                <a:moveTo>
                  <a:pt x="-1800" y="0"/>
                </a:moveTo>
                <a:lnTo>
                  <a:pt x="-1800"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85" name="Rectangle 12"/>
          <p:cNvSpPr/>
          <p:nvPr/>
        </p:nvSpPr>
        <p:spPr>
          <a:xfrm>
            <a:off x="4952880" y="2193840"/>
            <a:ext cx="3486240" cy="1471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CaixaDeTexto 10"/>
          <p:cNvSpPr/>
          <p:nvPr/>
        </p:nvSpPr>
        <p:spPr>
          <a:xfrm>
            <a:off x="6137280" y="2874960"/>
            <a:ext cx="111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87" name="CaixaDeTexto 10"/>
          <p:cNvSpPr/>
          <p:nvPr/>
        </p:nvSpPr>
        <p:spPr>
          <a:xfrm>
            <a:off x="6137280" y="26607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CaixaDeTexto 10"/>
          <p:cNvSpPr/>
          <p:nvPr/>
        </p:nvSpPr>
        <p:spPr>
          <a:xfrm>
            <a:off x="6084720" y="268272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ea typeface="Arial"/>
              </a:rPr>
              <a:t>Image</a:t>
            </a:r>
            <a:endParaRPr b="0" lang="en-US" sz="2000" spc="-1" strike="noStrike">
              <a:solidFill>
                <a:srgbClr val="000000"/>
              </a:solidFill>
              <a:latin typeface="Arial"/>
            </a:endParaRPr>
          </a:p>
        </p:txBody>
      </p:sp>
      <p:sp>
        <p:nvSpPr>
          <p:cNvPr id="989" name="PlaceHolder 1"/>
          <p:cNvSpPr>
            <a:spLocks noGrp="1"/>
          </p:cNvSpPr>
          <p:nvPr>
            <p:ph type="title"/>
          </p:nvPr>
        </p:nvSpPr>
        <p:spPr>
          <a:xfrm>
            <a:off x="456840" y="206280"/>
            <a:ext cx="4475160" cy="857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800" spc="-1" strike="noStrike">
                <a:solidFill>
                  <a:srgbClr val="1d2036"/>
                </a:solidFill>
                <a:latin typeface="Verdana"/>
              </a:rPr>
              <a:t>Title</a:t>
            </a:r>
            <a:endParaRPr b="0" lang="en-US" sz="3800" spc="-1" strike="noStrike">
              <a:solidFill>
                <a:srgbClr val="000000"/>
              </a:solidFill>
              <a:latin typeface="Calibri"/>
            </a:endParaRPr>
          </a:p>
        </p:txBody>
      </p:sp>
      <p:sp>
        <p:nvSpPr>
          <p:cNvPr id="990" name=""/>
          <p:cNvSpPr txBox="1"/>
          <p:nvPr/>
        </p:nvSpPr>
        <p:spPr>
          <a:xfrm>
            <a:off x="457200" y="898200"/>
            <a:ext cx="3610080" cy="323640"/>
          </a:xfrm>
          <a:prstGeom prst="rect">
            <a:avLst/>
          </a:prstGeom>
          <a:noFill/>
          <a:ln w="0">
            <a:noFill/>
          </a:ln>
        </p:spPr>
        <p:txBody>
          <a:bodyPr lIns="90000" rIns="90000" tIns="46800" bIns="46800"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31859c"/>
                </a:solidFill>
                <a:latin typeface="Verdana"/>
              </a:rPr>
              <a:t>Subtitle</a:t>
            </a:r>
            <a:endParaRPr b="0" lang="en-US" sz="2000" spc="-1" strike="noStrike">
              <a:solidFill>
                <a:srgbClr val="000000"/>
              </a:solidFill>
              <a:latin typeface="Calibri"/>
            </a:endParaRPr>
          </a:p>
        </p:txBody>
      </p:sp>
      <p:sp>
        <p:nvSpPr>
          <p:cNvPr id="991" name="Espaço Reservado para Conteúdo 6"/>
          <p:cNvSpPr/>
          <p:nvPr/>
        </p:nvSpPr>
        <p:spPr>
          <a:xfrm>
            <a:off x="468360" y="1494000"/>
            <a:ext cx="3240000" cy="14601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95959"/>
                </a:solidFill>
                <a:latin typeface="Verdana"/>
              </a:rPr>
              <a:t>Lorem ipsum dolor sit amet, consectetur adipiscing elit. In semper tellus nulla, commodo scelerisque eros consectetur ut. </a:t>
            </a:r>
            <a:endParaRPr b="0" lang="en-US" sz="1400" spc="-1" strike="noStrike">
              <a:solidFill>
                <a:srgbClr val="000000"/>
              </a:solidFill>
              <a:latin typeface="Arial"/>
            </a:endParaRPr>
          </a:p>
        </p:txBody>
      </p:sp>
      <p:sp>
        <p:nvSpPr>
          <p:cNvPr id="992" name="Texto Explicativo 1 (Ênfase) 9"/>
          <p:cNvSpPr/>
          <p:nvPr/>
        </p:nvSpPr>
        <p:spPr>
          <a:xfrm>
            <a:off x="-2844720" y="1655640"/>
            <a:ext cx="2592360" cy="648000"/>
          </a:xfrm>
          <a:custGeom>
            <a:avLst/>
            <a:gdLst/>
            <a:ahLst/>
            <a:rect l="l" t="t" r="r" b="b"/>
            <a:pathLst>
              <a:path stroke="0" w="21600" h="21600">
                <a:moveTo>
                  <a:pt x="0" y="0"/>
                </a:moveTo>
                <a:lnTo>
                  <a:pt x="21600" y="0"/>
                </a:lnTo>
                <a:lnTo>
                  <a:pt x="21600" y="21600"/>
                </a:lnTo>
                <a:lnTo>
                  <a:pt x="0" y="21600"/>
                </a:lnTo>
                <a:close/>
              </a:path>
              <a:path w="21600" h="21600">
                <a:moveTo>
                  <a:pt x="26248" y="12309"/>
                </a:moveTo>
                <a:lnTo>
                  <a:pt x="23174" y="9447"/>
                </a:lnTo>
              </a:path>
              <a:path w="21600" h="21600">
                <a:moveTo>
                  <a:pt x="23174" y="0"/>
                </a:moveTo>
                <a:lnTo>
                  <a:pt x="23174" y="21600"/>
                </a:lnTo>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Verdana"/>
              </a:rPr>
              <a:t>Verdana – size 14 to 17</a:t>
            </a:r>
            <a:endParaRPr b="0" lang="en-US" sz="1200" spc="-1" strike="noStrike">
              <a:solidFill>
                <a:srgbClr val="000000"/>
              </a:solidFill>
              <a:latin typeface="Arial"/>
            </a:endParaRPr>
          </a:p>
        </p:txBody>
      </p:sp>
      <p:sp>
        <p:nvSpPr>
          <p:cNvPr id="993" name="Rectangle 12"/>
          <p:cNvSpPr/>
          <p:nvPr/>
        </p:nvSpPr>
        <p:spPr>
          <a:xfrm>
            <a:off x="4724280" y="21924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CaixaDeTexto 10"/>
          <p:cNvSpPr/>
          <p:nvPr/>
        </p:nvSpPr>
        <p:spPr>
          <a:xfrm>
            <a:off x="6060960" y="28670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5" name="CaixaDeTexto 10"/>
          <p:cNvSpPr/>
          <p:nvPr/>
        </p:nvSpPr>
        <p:spPr>
          <a:xfrm>
            <a:off x="5943600" y="26510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
        <p:nvSpPr>
          <p:cNvPr id="996" name="Rectangle 13"/>
          <p:cNvSpPr/>
          <p:nvPr/>
        </p:nvSpPr>
        <p:spPr>
          <a:xfrm>
            <a:off x="4724280" y="592200"/>
            <a:ext cx="3733920" cy="1487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CaixaDeTexto 10"/>
          <p:cNvSpPr/>
          <p:nvPr/>
        </p:nvSpPr>
        <p:spPr>
          <a:xfrm>
            <a:off x="6060960" y="126684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7f7f7f"/>
                </a:solidFill>
                <a:latin typeface="Verdana"/>
              </a:rPr>
              <a:t>Image</a:t>
            </a:r>
            <a:endParaRPr b="0" lang="en-US" sz="1600" spc="-1" strike="noStrike">
              <a:solidFill>
                <a:srgbClr val="000000"/>
              </a:solidFill>
              <a:latin typeface="Arial"/>
            </a:endParaRPr>
          </a:p>
        </p:txBody>
      </p:sp>
      <p:sp>
        <p:nvSpPr>
          <p:cNvPr id="998" name="CaixaDeTexto 10"/>
          <p:cNvSpPr/>
          <p:nvPr/>
        </p:nvSpPr>
        <p:spPr>
          <a:xfrm>
            <a:off x="5943600" y="1050840"/>
            <a:ext cx="133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f7f7f"/>
                </a:solidFill>
                <a:latin typeface="Verdana"/>
              </a:rPr>
              <a:t>Im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1T19:36:13Z</dcterms:created>
  <dc:creator>luciana</dc:creator>
  <dc:description/>
  <dc:language>en-US</dc:language>
  <cp:lastModifiedBy>Grande</cp:lastModifiedBy>
  <dcterms:modified xsi:type="dcterms:W3CDTF">2017-02-03T18:14:29Z</dcterms:modified>
  <cp:revision>51</cp:revision>
  <dc:subject/>
  <dc:title>Slide 1</dc:title>
</cp:coreProperties>
</file>